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FE7-4FD1-4C68-B589-BC1BCBE5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3AA-B61E-4CBE-BB5B-B07A81E8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63F-5E1F-4139-9E5C-E365E771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273-0FF1-4E88-9E5D-CFAFBAED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3A2-80A0-424A-8C3E-28D5107A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E99F-A98E-417E-BAE5-D5F22794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1D5-AD6B-4F57-8171-C34222E7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52B-A246-4EE9-980D-8AAC530E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5AE-9BF1-47F6-863D-142F0A94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66D-A634-4A74-9EB4-BC67B729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EEC-2F70-48E7-B9C1-5BC9CF31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979-C813-42E9-8F7B-7E19BC37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D2A7-EB68-4A40-B1BA-B6520AD4444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646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69800" y="2419200"/>
            <a:ext cx="908280" cy="6480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079640"/>
            <a:ext cx="7851960" cy="13777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890640" y="5772240"/>
            <a:ext cx="509580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517760" y="4979880"/>
            <a:ext cx="382248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414440" y="2262240"/>
            <a:ext cx="5181480" cy="7984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2109960" y="3151080"/>
            <a:ext cx="518148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1335240" y="3962520"/>
            <a:ext cx="529092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30" descr=""/>
          <p:cNvPicPr/>
          <p:nvPr/>
        </p:nvPicPr>
        <p:blipFill>
          <a:blip r:embed="rId9"/>
          <a:stretch/>
        </p:blipFill>
        <p:spPr>
          <a:xfrm>
            <a:off x="5657760" y="4559400"/>
            <a:ext cx="2889360" cy="11890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1206360" y="4479840"/>
            <a:ext cx="3908520" cy="64620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1206360" y="5473800"/>
            <a:ext cx="399888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895320" y="4267080"/>
            <a:ext cx="5097600" cy="6159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1523880" y="3627360"/>
            <a:ext cx="38228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1395360" y="938160"/>
            <a:ext cx="5181480" cy="6224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3181320" y="1414440"/>
            <a:ext cx="5181480" cy="6336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1225440" y="2090880"/>
            <a:ext cx="532764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0" descr=""/>
          <p:cNvPicPr/>
          <p:nvPr/>
        </p:nvPicPr>
        <p:blipFill>
          <a:blip r:embed="rId7"/>
          <a:stretch/>
        </p:blipFill>
        <p:spPr>
          <a:xfrm>
            <a:off x="5851440" y="3176640"/>
            <a:ext cx="2884680" cy="11826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1189080" y="3164040"/>
            <a:ext cx="3906720" cy="6458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1170000" y="4011480"/>
            <a:ext cx="399888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0"/>
          <a:stretch/>
        </p:blipFill>
        <p:spPr>
          <a:xfrm>
            <a:off x="2279520" y="2571840"/>
            <a:ext cx="5261040" cy="5428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3" descr=""/>
          <p:cNvPicPr/>
          <p:nvPr/>
        </p:nvPicPr>
        <p:blipFill>
          <a:blip r:embed="rId11"/>
          <a:stretch/>
        </p:blipFill>
        <p:spPr>
          <a:xfrm>
            <a:off x="5851440" y="4950000"/>
            <a:ext cx="2884680" cy="5968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12"/>
          <a:stretch/>
        </p:blipFill>
        <p:spPr>
          <a:xfrm>
            <a:off x="1341360" y="4979880"/>
            <a:ext cx="5230800" cy="4636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13"/>
          <a:stretch/>
        </p:blipFill>
        <p:spPr>
          <a:xfrm>
            <a:off x="1328760" y="5462640"/>
            <a:ext cx="5237280" cy="4572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4"/>
          <a:stretch/>
        </p:blipFill>
        <p:spPr>
          <a:xfrm>
            <a:off x="1700280" y="5827680"/>
            <a:ext cx="1049400" cy="46368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15"/>
          <a:stretch/>
        </p:blipFill>
        <p:spPr>
          <a:xfrm>
            <a:off x="2779560" y="5827680"/>
            <a:ext cx="1127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2" descr=""/>
          <p:cNvPicPr/>
          <p:nvPr/>
        </p:nvPicPr>
        <p:blipFill>
          <a:blip r:embed="rId2"/>
          <a:stretch/>
        </p:blipFill>
        <p:spPr>
          <a:xfrm>
            <a:off x="463680" y="1914480"/>
            <a:ext cx="914400" cy="64620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4"/>
          <a:stretch/>
        </p:blipFill>
        <p:spPr>
          <a:xfrm>
            <a:off x="1390680" y="1865160"/>
            <a:ext cx="5181480" cy="62892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5"/>
          <a:stretch/>
        </p:blipFill>
        <p:spPr>
          <a:xfrm>
            <a:off x="1189080" y="2597040"/>
            <a:ext cx="5370480" cy="64620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6"/>
          <a:stretch/>
        </p:blipFill>
        <p:spPr>
          <a:xfrm>
            <a:off x="1401840" y="3139920"/>
            <a:ext cx="5187960" cy="66996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7"/>
          <a:stretch/>
        </p:blipFill>
        <p:spPr>
          <a:xfrm>
            <a:off x="1749600" y="3780000"/>
            <a:ext cx="5181480" cy="66960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8"/>
          <a:stretch/>
        </p:blipFill>
        <p:spPr>
          <a:xfrm>
            <a:off x="1749600" y="4449600"/>
            <a:ext cx="5187600" cy="6652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9"/>
          <a:stretch/>
        </p:blipFill>
        <p:spPr>
          <a:xfrm>
            <a:off x="1200240" y="5048280"/>
            <a:ext cx="53719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14:21Z</dcterms:modified>
  <cp:revision>9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